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FCA-605E-4B3D-BA63-3823933B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3FA-B7A3-4193-9E28-2F3003A9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1FF-31A0-4F71-A668-DE3A5A2A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3EB-9E2C-401D-8C06-E5636C38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A36-0F45-4772-890C-F1A6235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2A5-9EB7-4653-B89E-C820316E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950-5FCC-4FFD-B90A-1764984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512-17D8-47DE-8A0D-F6EBD2A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AF0-DDB4-4053-BAB9-4AA1CEE5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A47-2346-4AEE-8968-7594F5E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2BB-A8FB-4BB3-BFFC-E4AE2A4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B7A-1F0A-4F64-8B8A-2AEA06C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E7EB-C5B4-408E-8F3B-FA74C6A11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am a New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: Alyssa Rodrig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4133880"/>
            <a:ext cx="4086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ice of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 am a New Beginning.wpl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523880" y="1676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below to hear audi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03:29:43Z</dcterms:created>
  <dc:creator>Frankie</dc:creator>
  <dc:description/>
  <dc:language>en-US</dc:language>
  <cp:lastModifiedBy>Frankie</cp:lastModifiedBy>
  <dcterms:modified xsi:type="dcterms:W3CDTF">2015-01-22T03:36:34Z</dcterms:modified>
  <cp:revision>1</cp:revision>
  <dc:subject/>
  <dc:title>I am a New Beginning</dc:title>
</cp:coreProperties>
</file>