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1B4C-94C7-481A-A372-CA6ACDD74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F1F0-9D30-48B4-A83D-5404A1A2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B49A-718C-4CE4-BF09-852A13D54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E2BB-796D-4AA1-823F-0DEB8244B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B9DD-6AAD-4537-BD42-85BE72A8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D1CD-AB48-4BEE-A752-BA0D6F55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70BD-F3FA-4D85-881A-155719B9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1388-DB9A-4C4E-9C52-BD3A6C1F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BFA0-2995-4BDE-B9DE-71F3062B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0D77-4CE6-4045-A5DC-4D7ECF78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FE06-B9C5-48FB-B6FF-951FE1E9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F2BA-7ED9-4F96-B23F-CDF13D13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3BCA-B1AA-40C3-9B6E-20707A6A49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I am a New Begi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y: Alyssa Rodrigue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4133880"/>
            <a:ext cx="408636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ice of Po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I am a New Beginning.wpl" descr=""/>
          <p:cNvPicPr/>
          <p:nvPr/>
        </p:nvPicPr>
        <p:blipFill>
          <a:blip r:embed="rId1"/>
          <a:stretch/>
        </p:blipFill>
        <p:spPr>
          <a:xfrm>
            <a:off x="3048120" y="271944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1523880" y="16765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below to hear audio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2T03:29:43Z</dcterms:created>
  <dc:creator>Frankie</dc:creator>
  <dc:description/>
  <dc:language>en-US</dc:language>
  <cp:lastModifiedBy>Frankie</cp:lastModifiedBy>
  <dcterms:modified xsi:type="dcterms:W3CDTF">2015-01-22T03:36:34Z</dcterms:modified>
  <cp:revision>1</cp:revision>
  <dc:subject/>
  <dc:title>I am a New Beginning</dc:title>
</cp:coreProperties>
</file>