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6E0-3EE6-402C-8E0C-96EB4205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FD4-3035-40C2-BB24-C497CF2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F00-D29C-4FB1-B305-2BD3757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C30-BBC6-4F83-B0F2-CF3898D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C28-5D7A-4AEB-9189-1B106EB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23B-78E7-4425-B5E0-ED26571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2D2-99A2-422C-B5F8-71F786FF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D00-2B90-4A57-8ECE-D7296AA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FC5-927D-4993-8DB2-7985F58A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91A-162B-4B41-8C3B-D13F992E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D14-BEA3-4282-83A4-2037E53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831-FBC9-4122-B6D9-98570E08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A32-593E-4651-BD0D-83F98212D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url?sa=i&amp;rct=j&amp;q=&amp;esrc=s&amp;source=images&amp;cd=&amp;cad=rja&amp;docid=kAMORWi9wT02xM&amp;tbnid=ONwcGYs_ClWkrM:&amp;ved=0CAUQjRw&amp;url=http://1dreambook.com/online/jumping/&amp;ei=a5jpUpzKNo2ayQGewIHQDg&amp;psig=AFQjCNEOMZvlbUygVqjj0PH5xjDtAjd3Fg&amp;ust=1391126967628614" TargetMode="External"/><Relationship Id="rId3" Type="http://schemas.openxmlformats.org/officeDocument/2006/relationships/hyperlink" Target="http://www.google.com/url?sa=i&amp;rct=j&amp;q=&amp;esrc=s&amp;source=images&amp;cd=&amp;cad=rja&amp;docid=kAMORWi9wT02xM&amp;tbnid=ONwcGYs_ClWkrM:&amp;ved=0CAUQjRw&amp;url=http://1dreambook.com/online/jumping/&amp;ei=a5jpUpzKNo2ayQGewIHQDg&amp;psig=AFQjCNEOMZvlbUygVqjj0PH5xjDtAjd3Fg&amp;ust=1391126967628614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rk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y experience with Mental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By Sara Wed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re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 is a circ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ig and wide as the s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ut for me, it’s a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A strand I’m loosing my grip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ly I sl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’t regain my gr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dden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 is around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falling.jpg"/>
          <p:cNvPicPr/>
          <p:nvPr/>
        </p:nvPicPr>
        <p:blipFill>
          <a:blip r:embed="rId1"/>
          <a:stretch/>
        </p:blipFill>
        <p:spPr>
          <a:xfrm>
            <a:off x="6553080" y="41148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air.jpg"/>
          <p:cNvPicPr/>
          <p:nvPr/>
        </p:nvPicPr>
        <p:blipFill>
          <a:blip r:embed="rId2"/>
          <a:stretch/>
        </p:blipFill>
        <p:spPr>
          <a:xfrm>
            <a:off x="7308720" y="15969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Crazi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 can’t see the light that is the s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t shines, but misses m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nly darkness surrounds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eel mine is g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or this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No one underst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an they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nally I see str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 grab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>
            <a:hlinkClick r:id="rId2"/>
          </p:cNvPr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jumping.png"/>
          <p:cNvPicPr/>
          <p:nvPr/>
        </p:nvPicPr>
        <p:blipFill>
          <a:blip r:embed="rId4"/>
          <a:stretch/>
        </p:blipFill>
        <p:spPr>
          <a:xfrm>
            <a:off x="6778800" y="1517760"/>
            <a:ext cx="14572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ld on t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ulls me into the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good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great to see the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22:01:08Z</dcterms:created>
  <dc:creator>Sara</dc:creator>
  <dc:description/>
  <dc:language>en-US</dc:language>
  <cp:lastModifiedBy>Sara</cp:lastModifiedBy>
  <dcterms:modified xsi:type="dcterms:W3CDTF">2014-01-30T00:53:19Z</dcterms:modified>
  <cp:revision>18</cp:revision>
  <dc:subject/>
  <dc:title>Darkness</dc:title>
</cp:coreProperties>
</file>