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487-CC3A-42C0-8E42-6C4FBD7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3C0-E67E-4E8E-AC29-6C2BBE49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47C-CA0B-467B-B3A5-A88525BE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5E0-09FA-4465-ACC4-3A3BF57C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2EA-FF29-4E7A-8F8D-E522782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EB6-6880-4381-94B1-9FEB9448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2C7-4A0F-4A14-A0B5-E79A79E6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5D7-7A97-4919-8E7F-08C371E3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278-586D-4B87-8AE4-0BBECB7D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2E9-465C-4F70-927C-A124313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DD2-C8D5-4C83-A7AD-CC8BEC5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A94-8A57-46A2-9758-A7320535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DEB-4562-48B5-BBD8-449FA4F6E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url?sa=i&amp;rct=j&amp;q=&amp;esrc=s&amp;source=images&amp;cd=&amp;cad=rja&amp;docid=kAMORWi9wT02xM&amp;tbnid=ONwcGYs_ClWkrM:&amp;ved=0CAUQjRw&amp;url=http://1dreambook.com/online/jumping/&amp;ei=a5jpUpzKNo2ayQGewIHQDg&amp;psig=AFQjCNEOMZvlbUygVqjj0PH5xjDtAjd3Fg&amp;ust=1391126967628614" TargetMode="External"/><Relationship Id="rId3" Type="http://schemas.openxmlformats.org/officeDocument/2006/relationships/hyperlink" Target="http://www.google.com/url?sa=i&amp;rct=j&amp;q=&amp;esrc=s&amp;source=images&amp;cd=&amp;cad=rja&amp;docid=kAMORWi9wT02xM&amp;tbnid=ONwcGYs_ClWkrM:&amp;ved=0CAUQjRw&amp;url=http://1dreambook.com/online/jumping/&amp;ei=a5jpUpzKNo2ayQGewIHQDg&amp;psig=AFQjCNEOMZvlbUygVqjj0PH5xjDtAjd3Fg&amp;ust=1391126967628614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ark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y experience with Mental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By Sara Wed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(re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 is a circ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ig and wide as the s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ut for me, it’s a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A strand I’m loosing my grip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ly I sl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’t regain my gr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f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dden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 is around 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falling.jpg"/>
          <p:cNvPicPr/>
          <p:nvPr/>
        </p:nvPicPr>
        <p:blipFill>
          <a:blip r:embed="rId1"/>
          <a:stretch/>
        </p:blipFill>
        <p:spPr>
          <a:xfrm>
            <a:off x="6553080" y="411480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air.jpg"/>
          <p:cNvPicPr/>
          <p:nvPr/>
        </p:nvPicPr>
        <p:blipFill>
          <a:blip r:embed="rId2"/>
          <a:stretch/>
        </p:blipFill>
        <p:spPr>
          <a:xfrm>
            <a:off x="7308720" y="1596960"/>
            <a:ext cx="1457280" cy="19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(Crazi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 can’t see the light that is the s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t shines, but misses m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nly darkness surrounds 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feel mine is g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or this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No one underst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an they hel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nally I see str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 grab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>
            <a:hlinkClick r:id="rId2"/>
          </p:cNvPr>
          <p:cNvSpPr/>
          <p:nvPr/>
        </p:nvSpPr>
        <p:spPr>
          <a:xfrm>
            <a:off x="0" y="-2452680"/>
            <a:ext cx="68198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0" y="-2452680"/>
            <a:ext cx="68198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0" y="-2452680"/>
            <a:ext cx="68198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jumping.png"/>
          <p:cNvPicPr/>
          <p:nvPr/>
        </p:nvPicPr>
        <p:blipFill>
          <a:blip r:embed="rId4"/>
          <a:stretch/>
        </p:blipFill>
        <p:spPr>
          <a:xfrm>
            <a:off x="6778800" y="1517760"/>
            <a:ext cx="14572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ld on tigh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ulls me into the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goodne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great to see the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22:01:08Z</dcterms:created>
  <dc:creator>Sara</dc:creator>
  <dc:description/>
  <dc:language>en-US</dc:language>
  <cp:lastModifiedBy>Sara</cp:lastModifiedBy>
  <dcterms:modified xsi:type="dcterms:W3CDTF">2014-01-30T00:53:19Z</dcterms:modified>
  <cp:revision>18</cp:revision>
  <dc:subject/>
  <dc:title>Darkness</dc:title>
</cp:coreProperties>
</file>